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4464-3CEC-47C1-B116-92F85D1C1CEC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6308-A23D-404B-910A-D2ECF1059DA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EA16-FE93-4EA8-A621-189FE625A77A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FDF6-960F-4860-A736-523F36187253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D583-2C20-4614-AD92-E856FD65A4F2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1863-5DFE-4582-ABAD-4AB34A1E0D44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38A0-DE4D-4D54-9DD1-94442F3EBC0F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72B7-92FF-4A7C-8704-36F75AD55A9C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E329-D316-4FCD-9CDA-1EDD8B17E87E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7806-7061-44A1-AFAB-61C4E606F2C3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8E9D-FB05-4FF7-AEDD-52A9984E2926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3AB-994D-46A0-9425-BBB5EBAC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F7F-354A-4064-83D9-B0E406F6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1CC-0DA4-4CC9-BE01-FCF698E4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8E4-7C24-4F12-BD81-92B6E451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E0BA-6326-4F77-8DC7-86406BB5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7A89-98F9-4C71-A1DD-17B9C1E1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92F5-A0D3-4251-A6A8-AD4F4DF2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BEDD-332B-4AED-9D3F-17A524E4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04F2-239B-4B55-A4F3-4033ED65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9D7C-F16D-497C-AC45-AF20F429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2E80-32D6-4FF6-A5C6-4AB3C2D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60B-2202-44C4-B1D7-ADAD3FC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4662-1AEB-404A-9E24-83E9B2AD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C5BC-6D2F-4F4A-BC6A-E295EE9B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C91F-CD16-4B9E-A0C6-9CFE241B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D782-BE22-4DB5-B8C6-24A24AF8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9264-3877-4BCE-AA4C-9AE6C07E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651E-504C-49EA-986D-7B62C9B5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FE1E-1002-49F4-8132-7DA663E3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A838-8F0C-4BF5-BC55-BC6CB39A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BC59-4E6C-4575-B9E8-D3B52AB3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C6A4-08F7-4FBB-B776-98F3170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370-2AB8-41F2-975B-7CD9ECDB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F86E-0141-4E52-B8FF-18E5EAEA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6300-D8CB-4655-AB91-1B738CC8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C88E-EA9E-4F58-89C0-F8FE29F4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0DCF-3440-4A8E-834D-4E90B522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DC3E-30A9-4859-984B-CD2A5800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3312-B59D-4656-A0BD-1BA2BF2D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65A9-356C-46E0-B6DA-2E5C3D4E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B3A88-F4F0-453E-8291-88C2095E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D96B9-CE25-49DE-BECA-F1F22832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36CF6-6183-4ADF-BCBB-BCD3CDF4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232-1C35-45B0-AAA0-A4257D85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1424A-AB5D-4961-9228-620BDF2F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7CF4-452B-4B89-B887-F613A76C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2B7FF-4725-44DA-A139-87D1D6E0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C279-BF63-4645-82C2-3E24CF3B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B0A55-7DD0-4DFD-AF34-4975515F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FAD5D-8E19-42E4-AD1B-8140BC42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E287-50E9-45C3-86C2-BB95308C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14AB4-11CD-4CEA-A478-0C5E969C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86B3-F9E3-4CE2-87B2-AAF15CB4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391-9170-4047-BAE1-E02F5F28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5BF-5E7C-4807-9A9E-AA972882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E21-E979-4481-A168-5E5D3326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163-756A-40A4-9932-EFDF7CBC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50D-D187-4FCB-BB0E-730B2D4C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9125-6935-485D-88A7-15B454CEC114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71D4-6A4D-432A-8B23-B4578250571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1091-C823-4E69-89A0-EFF1A3066C15}" type="datetime">
              <a:rPr b="0" lang="en-US" sz="1200" spc="-1" strike="noStrike">
                <a:solidFill>
                  <a:srgbClr val="d1eae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D371-535C-4FC3-AB1B-A7338F88A58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F5A-63CD-4C9B-90A3-1DD8AE4E7ED7}" type="datetime">
              <a:rPr b="0" lang="en-US" sz="1200" spc="-1" strike="noStrike">
                <a:solidFill>
                  <a:srgbClr val="d1eae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5D4F-6985-4E97-8E70-46BAF3207D3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3F68-11BE-4311-8A81-806F8DCE9352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809-B84E-4A7D-A533-9889F8F7A4C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18A6-B77D-48FD-A5A7-78946431ABB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1143000" y="2743200"/>
            <a:ext cx="68580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-Centric Approach to Place Based Commun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lcwlogo.gif"/>
          <p:cNvPicPr/>
          <p:nvPr/>
        </p:nvPicPr>
        <p:blipFill>
          <a:blip r:embed="rId1"/>
          <a:stretch/>
        </p:blipFill>
        <p:spPr>
          <a:xfrm>
            <a:off x="685800" y="685800"/>
            <a:ext cx="3733920" cy="1643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Diagram 1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20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3733920" y="3276720"/>
            <a:ext cx="17524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Give/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762120" y="685800"/>
            <a:ext cx="7696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ploring  The Network Form – A Value &amp; Demand Drive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60948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-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6553080" y="3200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ive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358128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der as “Wea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“Community?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 the cellular level - ‘The exchange of value that comes from a  single relationship of trust and mutual support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Place - The aggregate of these relationships form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onnected environ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is not ‘community’ but the infrastructure for 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the functionality that emerges from this infrastrucuture – the ability to act, plan, solve problems, adapt well to change, embrace newcomers, collectively comfort and individually be known, that is “communit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Community Building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are community building when we act to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optimize the value of pla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two primary way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imulate Grassroots economic mobiliz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ueled by the unleashing of latent valu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oster functional democrac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 defined by the principal of “consent by the governed” which is the cornerstone of liberty and the best chance for social and economic justi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685800" y="1828800"/>
          <a:ext cx="7848720" cy="24382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“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vironment”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rrounding conditions, influences, or forces, by which living forms are influenced and modified in their growth and develop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ke in all nature – human environment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F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certain things an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Star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other things.  The question for us…”what are we feeding and what are we starving?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19"/>
          <p:cNvSpPr/>
          <p:nvPr/>
        </p:nvSpPr>
        <p:spPr>
          <a:xfrm>
            <a:off x="304920" y="4343400"/>
            <a:ext cx="84582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ur Guiding Principal: Cultivating New Human Environments that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ursuit of valu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roductivit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lationships of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oic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utual Suppor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enerosity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reatio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57200" y="990720"/>
            <a:ext cx="8153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esso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People exist in environments, not organizations or groups of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iagram 2" descr=""/>
          <p:cNvPicPr/>
          <p:nvPr/>
        </p:nvPicPr>
        <p:blipFill>
          <a:blip r:embed="rId1"/>
          <a:stretch/>
        </p:blipFill>
        <p:spPr>
          <a:xfrm>
            <a:off x="3956040" y="2206800"/>
            <a:ext cx="4889520" cy="33652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304920" y="91440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” &amp; “Space” are still relevant and impactful elements of our environment. This makes “Place” important.  Technology’s ability to diminish time and space as relevant and impactful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ncreas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ut is als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mmodified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For poor people, “place” remains one of the most important environmental factors for quality of life and economic Su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entury Environmental Fa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further influence the ‘Value of Plac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304920" y="533520"/>
            <a:ext cx="7391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esson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lace has changed as a factor in the lives of most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457200" y="5715000"/>
            <a:ext cx="8305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ur Guiding Principal: “Community Building is a process of grass roots mobilization, where the goal is to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‘optimize the value of place’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the lives of struggling families and individuals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2"/>
          <p:cNvSpPr/>
          <p:nvPr/>
        </p:nvSpPr>
        <p:spPr>
          <a:xfrm>
            <a:off x="457200" y="1523880"/>
            <a:ext cx="82296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al forms of human engagement are invented to compensate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ence of relationships of trust and valu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l and perceived imbalances of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l and percieved complexities of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community setting, entrenched habits of organization assume structural solutions. But the forms are over engineer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hibit the development of relationships of trust a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inforce real and perceived imbalances of power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vor process over actio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the ‘who are we’ over the ‘what should we do together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457200" y="457200"/>
            <a:ext cx="754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esson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community organizing and community building and in many Movements we have a fetish for structural forms to our det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457200" y="5562720"/>
            <a:ext cx="82296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ur Guiding Principal: 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 FOLLOWS FUNCTION and in community Open Architecture Forms that are provisional, informal, action oriented and seek perpetual access are bes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2"/>
          <p:cNvSpPr/>
          <p:nvPr/>
        </p:nvSpPr>
        <p:spPr>
          <a:xfrm>
            <a:off x="533520" y="838080"/>
            <a:ext cx="8153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esso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Environmental factors are shifting the nature of ‘belonging’ and the preferred forms of affiliation and memb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457200" y="5562720"/>
            <a:ext cx="8229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ur Guiding Principal: Low level Affiliation based on Value and Choice is the optimal membership environment for most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6" descr=""/>
          <p:cNvPicPr/>
          <p:nvPr/>
        </p:nvPicPr>
        <p:blipFill>
          <a:blip r:embed="rId1"/>
          <a:stretch/>
        </p:blipFill>
        <p:spPr>
          <a:xfrm>
            <a:off x="530280" y="1670040"/>
            <a:ext cx="3822480" cy="3262320"/>
          </a:xfrm>
          <a:prstGeom prst="rect">
            <a:avLst/>
          </a:prstGeom>
          <a:ln w="0">
            <a:noFill/>
          </a:ln>
        </p:spPr>
      </p:pic>
      <p:pic>
        <p:nvPicPr>
          <p:cNvPr id="222" name="Diagram 10" descr=""/>
          <p:cNvPicPr/>
          <p:nvPr/>
        </p:nvPicPr>
        <p:blipFill>
          <a:blip r:embed="rId2"/>
          <a:stretch/>
        </p:blipFill>
        <p:spPr>
          <a:xfrm>
            <a:off x="4950000" y="1749600"/>
            <a:ext cx="3822480" cy="3260520"/>
          </a:xfrm>
          <a:prstGeom prst="rect">
            <a:avLst/>
          </a:prstGeom>
          <a:ln w="0">
            <a:noFill/>
          </a:ln>
        </p:spPr>
      </p:pic>
      <p:sp>
        <p:nvSpPr>
          <p:cNvPr id="223" name="Striped Right Arrow 11"/>
          <p:cNvSpPr/>
          <p:nvPr/>
        </p:nvSpPr>
        <p:spPr>
          <a:xfrm>
            <a:off x="4114800" y="3276720"/>
            <a:ext cx="1143000" cy="5331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4" descr=""/>
          <p:cNvPicPr/>
          <p:nvPr/>
        </p:nvPicPr>
        <p:blipFill>
          <a:blip r:embed="rId1"/>
          <a:stretch/>
        </p:blipFill>
        <p:spPr>
          <a:xfrm>
            <a:off x="1292400" y="1365120"/>
            <a:ext cx="6565680" cy="42004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304920" y="7621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ur Objectiv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t Thousands in the Game - Build A Network- Centric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viron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led with Lawrence Families and Providers Who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838080" y="5380200"/>
            <a:ext cx="746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bership In the Network: NOT a club for NEEDY PEOPLE, but an environment filled with ambitious, creative people who are “working on their stuff” and Engaged in Public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Diagram 1" descr=""/>
          <p:cNvPicPr/>
          <p:nvPr/>
        </p:nvPicPr>
        <p:blipFill>
          <a:blip r:embed="rId1"/>
          <a:stretch/>
        </p:blipFill>
        <p:spPr>
          <a:xfrm>
            <a:off x="225360" y="426960"/>
            <a:ext cx="8699400" cy="63817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3200400" y="2666880"/>
            <a:ext cx="1600200" cy="94644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ember+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u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cri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onn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4572000" y="4343400"/>
            <a:ext cx="1219320" cy="73332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PODER Leadership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3886200" y="1828800"/>
            <a:ext cx="1600200" cy="82404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eviviendo Fellows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Curved Connector 8"/>
          <p:cNvCxnSpPr/>
          <p:nvPr/>
        </p:nvCxnSpPr>
        <p:spPr>
          <a:xfrm rot="5400000">
            <a:off x="6285960" y="1866600"/>
            <a:ext cx="68652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Curved Connector 11"/>
          <p:cNvCxnSpPr/>
          <p:nvPr/>
        </p:nvCxnSpPr>
        <p:spPr>
          <a:xfrm rot="10800000">
            <a:off x="6171480" y="3580560"/>
            <a:ext cx="1067400" cy="30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Curved Connector 16"/>
          <p:cNvCxnSpPr/>
          <p:nvPr/>
        </p:nvCxnSpPr>
        <p:spPr>
          <a:xfrm rot="5400000">
            <a:off x="4342680" y="1066680"/>
            <a:ext cx="762480" cy="6102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Curved Connector 22"/>
          <p:cNvCxnSpPr/>
          <p:nvPr/>
        </p:nvCxnSpPr>
        <p:spPr>
          <a:xfrm>
            <a:off x="2514600" y="2057040"/>
            <a:ext cx="991440" cy="30564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Curved Connector 27"/>
          <p:cNvCxnSpPr/>
          <p:nvPr/>
        </p:nvCxnSpPr>
        <p:spPr>
          <a:xfrm rot="10800000">
            <a:off x="5942880" y="4571280"/>
            <a:ext cx="76284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Curved Connector 32"/>
          <p:cNvCxnSpPr/>
          <p:nvPr/>
        </p:nvCxnSpPr>
        <p:spPr>
          <a:xfrm flipV="1">
            <a:off x="2133720" y="3580560"/>
            <a:ext cx="915120" cy="3056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Curved Connector 37"/>
          <p:cNvCxnSpPr/>
          <p:nvPr/>
        </p:nvCxnSpPr>
        <p:spPr>
          <a:xfrm flipV="1">
            <a:off x="2895480" y="5257440"/>
            <a:ext cx="1067760" cy="534240"/>
          </a:xfrm>
          <a:prstGeom prst="curvedConnector5">
            <a:avLst>
              <a:gd name="adj1" fmla="val 49983"/>
              <a:gd name="adj2" fmla="val 49966"/>
              <a:gd name="adj3" fmla="val 49983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Curved Connector 48"/>
          <p:cNvCxnSpPr/>
          <p:nvPr/>
        </p:nvCxnSpPr>
        <p:spPr>
          <a:xfrm flipH="1" flipV="1" rot="5400000">
            <a:off x="4190760" y="556200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TextBox 57"/>
          <p:cNvSpPr/>
          <p:nvPr/>
        </p:nvSpPr>
        <p:spPr>
          <a:xfrm>
            <a:off x="4952880" y="2819520"/>
            <a:ext cx="1600200" cy="52020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embership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8"/>
          <p:cNvSpPr/>
          <p:nvPr/>
        </p:nvSpPr>
        <p:spPr>
          <a:xfrm>
            <a:off x="5029200" y="3733920"/>
            <a:ext cx="1219320" cy="30708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AB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9"/>
          <p:cNvSpPr/>
          <p:nvPr/>
        </p:nvSpPr>
        <p:spPr>
          <a:xfrm>
            <a:off x="3048120" y="3962520"/>
            <a:ext cx="990360" cy="94644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ampus Residency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1"/>
          <p:cNvSpPr/>
          <p:nvPr/>
        </p:nvSpPr>
        <p:spPr>
          <a:xfrm>
            <a:off x="5335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ur For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Big Room With Many (Different) Do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2"/>
          <p:cNvSpPr/>
          <p:nvPr/>
        </p:nvSpPr>
        <p:spPr>
          <a:xfrm>
            <a:off x="7162920" y="5105520"/>
            <a:ext cx="1828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ible Memb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shold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s/Projects Function as “Do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ned Benefits for Experienced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ff and Members as Wea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22:19:28Z</dcterms:created>
  <dc:creator>Mark Friedman</dc:creator>
  <dc:description/>
  <dc:language>en-US</dc:language>
  <cp:lastModifiedBy>Bill Traynor</cp:lastModifiedBy>
  <cp:lastPrinted>2008-11-14T00:37:04Z</cp:lastPrinted>
  <dcterms:modified xsi:type="dcterms:W3CDTF">2009-04-10T12:43:43Z</dcterms:modified>
  <cp:revision>651</cp:revision>
  <dc:subject/>
  <dc:title>Results and Performance Accountabilty, Decision-making and Budg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FTST1">
    <vt:lpwstr>Welcome 
Strengthening Families through Community Change
 Webinar Series
Resident Engagement in Neighborhood Transformation
November 18, 2008</vt:lpwstr>
  </property>
  <property fmtid="{D5CDD505-2E9C-101B-9397-08002B2CF9AE}" pid="3" name="MFTST10">
    <vt:lpwstr>Levels of Resident Involvement</vt:lpwstr>
  </property>
  <property fmtid="{D5CDD505-2E9C-101B-9397-08002B2CF9AE}" pid="4" name="MFTST11">
    <vt:lpwstr>Casey Foundation Approach</vt:lpwstr>
  </property>
  <property fmtid="{D5CDD505-2E9C-101B-9397-08002B2CF9AE}" pid="5" name="MFTST12">
    <vt:lpwstr>AECF Community Change Initiative: Making Connections</vt:lpwstr>
  </property>
  <property fmtid="{D5CDD505-2E9C-101B-9397-08002B2CF9AE}" pid="6" name="MFTST13">
    <vt:lpwstr>AECF Community Change Initiative: Making Connections</vt:lpwstr>
  </property>
  <property fmtid="{D5CDD505-2E9C-101B-9397-08002B2CF9AE}" pid="7" name="MFTST14">
    <vt:lpwstr>Accomplishments in 2008:</vt:lpwstr>
  </property>
  <property fmtid="{D5CDD505-2E9C-101B-9397-08002B2CF9AE}" pid="8" name="MFTST15">
    <vt:lpwstr>Accomplishments in 2008:</vt:lpwstr>
  </property>
  <property fmtid="{D5CDD505-2E9C-101B-9397-08002B2CF9AE}" pid="9" name="MFTST16">
    <vt:lpwstr>Accomplishments in 2008: Influence</vt:lpwstr>
  </property>
  <property fmtid="{D5CDD505-2E9C-101B-9397-08002B2CF9AE}" pid="10" name="MFTST17">
    <vt:lpwstr>“Authentic Demand” is when people …
Believe that better results for children, families and neighborhoods are possible and are committed to pursui</vt:lpwstr>
  </property>
  <property fmtid="{D5CDD505-2E9C-101B-9397-08002B2CF9AE}" pid="11" name="MFTST18">
    <vt:lpwstr>Authentic Demand _x000b_“Honey Comb”</vt:lpwstr>
  </property>
  <property fmtid="{D5CDD505-2E9C-101B-9397-08002B2CF9AE}" pid="12" name="MFTST19">
    <vt:lpwstr>Important Community Infrastructure Components:</vt:lpwstr>
  </property>
  <property fmtid="{D5CDD505-2E9C-101B-9397-08002B2CF9AE}" pid="13" name="MFTST2">
    <vt:lpwstr>Agenda</vt:lpwstr>
  </property>
  <property fmtid="{D5CDD505-2E9C-101B-9397-08002B2CF9AE}" pid="14" name="MFTST20">
    <vt:lpwstr>Providence Example</vt:lpwstr>
  </property>
  <property fmtid="{D5CDD505-2E9C-101B-9397-08002B2CF9AE}" pid="15" name="MFTST21">
    <vt:lpwstr/>
  </property>
  <property fmtid="{D5CDD505-2E9C-101B-9397-08002B2CF9AE}" pid="16" name="MFTST22">
    <vt:lpwstr>Wrap-up</vt:lpwstr>
  </property>
  <property fmtid="{D5CDD505-2E9C-101B-9397-08002B2CF9AE}" pid="17" name="MFTST23">
    <vt:lpwstr>_x000b_Upcoming Strengthening Families thru Community Change Webinars</vt:lpwstr>
  </property>
  <property fmtid="{D5CDD505-2E9C-101B-9397-08002B2CF9AE}" pid="18" name="MFTST3">
    <vt:lpwstr>Purpose and Results</vt:lpwstr>
  </property>
  <property fmtid="{D5CDD505-2E9C-101B-9397-08002B2CF9AE}" pid="19" name="MFTST4">
    <vt:lpwstr>Jacobs Center for Neighborhood Innovation: 
The Village at Market Creek</vt:lpwstr>
  </property>
  <property fmtid="{D5CDD505-2E9C-101B-9397-08002B2CF9AE}" pid="20" name="MFTST5">
    <vt:lpwstr>Jacobs Center for Neighborhood Innovation
Resident Ownership of Change in the Diamond Neighborhoods</vt:lpwstr>
  </property>
  <property fmtid="{D5CDD505-2E9C-101B-9397-08002B2CF9AE}" pid="21" name="MFTST6">
    <vt:lpwstr>Jacobs Center for Neighborhood Innovation
Resident Ownership of Change in the Diamond Neighborhoods</vt:lpwstr>
  </property>
  <property fmtid="{D5CDD505-2E9C-101B-9397-08002B2CF9AE}" pid="22" name="MFTST7">
    <vt:lpwstr>Jacobs Center for _x000b_Neighborhood Innovation Approach</vt:lpwstr>
  </property>
  <property fmtid="{D5CDD505-2E9C-101B-9397-08002B2CF9AE}" pid="23" name="MFTST8">
    <vt:lpwstr>Get Involved_x000b_with the Community
Support projects that are initiated and_x000b_led by the community
Seek opportunities to work and learn together
Be clear</vt:lpwstr>
  </property>
  <property fmtid="{D5CDD505-2E9C-101B-9397-08002B2CF9AE}" pid="24" name="MFTST9">
    <vt:lpwstr>Phases of Our Community Work</vt:lpwstr>
  </property>
  <property fmtid="{D5CDD505-2E9C-101B-9397-08002B2CF9AE}" pid="25" name="MFTSlideTypes">
    <vt:lpwstr>5,5,5,5,5,5,5,5,5,5,5,5,5,5,5,5,5,5,5,5,5,5,5</vt:lpwstr>
  </property>
</Properties>
</file>